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media/image4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FF2-3478-4AAD-8526-72F5EFD20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4317-276D-463D-891D-04DA8083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A5A5-F5C3-4478-AF9B-4365EA65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4E9E-37BF-4947-BE1E-8248E1F65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757D-0EBB-4796-A866-2C1CC0C8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FEF8-EED5-4DD8-A464-9D3277BCD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E92-B070-4C1D-BE71-2208069B5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400-19C4-4B80-B8D3-400E6CAB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66E2-B336-459F-A478-718F3620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E1E9-4029-4519-AFB0-8B1AA512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D8B1-AC4C-41C6-9AEA-77A18A9F1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1C82-93CA-441B-B4DC-43D801C9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04871-DCD8-4879-8911-37EB55D927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image" Target="../media/image4.pct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enhouse gase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021200" y="5451480"/>
            <a:ext cx="3522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3480" y="5791320"/>
            <a:ext cx="31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:Kadesha Smi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th period Dr.Scea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宋体"/>
                <a:ea typeface="华文宋体"/>
              </a:rPr>
              <a:t>Greenhouse G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3059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already in the atmosphe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will continue to do damage for years to co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damage from gases will be added during th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1509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50999"/>
                </a:solidFill>
                <a:latin typeface="#궁서체"/>
                <a:ea typeface="#궁서체"/>
              </a:rPr>
              <a:t>it would take to implement any public or private sector plans to curb future emissions.</a:t>
            </a:r>
            <a:r>
              <a:rPr b="0" lang="en-US" sz="3200" spc="-1" strike="noStrike">
                <a:solidFill>
                  <a:srgbClr val="150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00400" y="4484520"/>
            <a:ext cx="2743200" cy="23529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6019920" y="4484520"/>
            <a:ext cx="2743200" cy="2373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0" y="4599000"/>
            <a:ext cx="312408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24:27Z</dcterms:created>
  <dc:creator>PA Department of Education</dc:creator>
  <dc:description/>
  <dc:language>en-US</dc:language>
  <cp:lastModifiedBy>PA Department of Education</cp:lastModifiedBy>
  <dcterms:modified xsi:type="dcterms:W3CDTF">2009-05-22T17:44:36Z</dcterms:modified>
  <cp:revision>5</cp:revision>
  <dc:subject/>
  <dc:title>Greenhouse Gases</dc:title>
</cp:coreProperties>
</file>